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C65-9CC2-432B-89DA-DDE9A465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BF4-5D9F-415C-B254-92B84B90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B4DD-B850-4F2F-9CA8-64D21DED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382-CE87-4703-96AE-25F60687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39F8-FE6A-4E62-8A36-B7730792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BC3D-2663-4C76-9F35-87EC41CA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C00E-62D8-4853-86A2-BBBC856A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1380-3843-4EF2-A82C-DE3EC2BE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0F20-CE1C-4613-B98E-117D29AA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3055-C139-4638-A439-7267ADD1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B29F-C131-484A-9BD0-3B363F16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941-6A73-4E2D-AE47-8C153C1B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A8F4-4B96-4B9A-98BA-8259E848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0049-57D0-4117-A279-F71EB39A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CFB3-C477-4997-8D3D-02325B12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0C9F-EDA4-42CF-B499-065B221C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6BC5-A5F1-411E-B77A-4A4FDB11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164-0C53-41EC-8228-A0C551B6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5F7-F35C-4059-87EE-F1198B41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55A-9372-4381-9EED-F91A7F3C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658-1A54-4C70-9C5A-99EFDF2E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516-AEDA-4F82-971E-3EC35CAF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38A-6732-42EB-BDBE-29CF2858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009-2080-4048-A1DF-6018B14A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5CF0-BD97-45C1-AC0B-619A953387F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AD4E-DFD9-4FC1-A20C-A38F6DAF5215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my.hrw.com/math06_07/nsmedia/tools/Algebra_Tiles/Algebra_Tiles.html" TargetMode="External"/><Relationship Id="rId2" Type="http://schemas.openxmlformats.org/officeDocument/2006/relationships/hyperlink" Target="http://nlvm.usu.edu/en/nav/topic_t_2.html" TargetMode="External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Do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gebra Ti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7920" y="3733560"/>
            <a:ext cx="71625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 HYBIRD ALGEBRA RESEARC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apted from David McReynolds, AIMS PreK-16 Proj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 Noel Villarreal, South Texas Rural Systemic Initiat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ddi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3) + (+1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ed like objects to get four posi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-2) + (-1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ed like objects to get three neg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1981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1981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1981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4038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038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4038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AD6-EA95-416B-878A-668728C5B6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77778E-006 L -0.05833 -7.77778E-006 E">
                                      <p:cBhvr>
                                        <p:cTn id="23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77778E-006 L -0.05 -7.77778E-006 E">
                                      <p:cBhvr>
                                        <p:cTn id="25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ddi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+3) + (-1)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zeroes to get two posi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+3) + (-4)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three zeroes to get one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students have seen many examples of addition, have them formulate ru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429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429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3429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19810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3429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3429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3429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153280" y="3429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190512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352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BD9-A564-4E9F-A238-CCC9B60C59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btrac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traction can be interpreted as “take-away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traction can also be thought of as “adding the opposite.” (must be extensively scaffolded before students are asked to develo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of the given examples, use algebra tiles to model the subtra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w pictorial diagrams which show the modeling proc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a description of the actions t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0EE-AA5E-4661-9B1C-4BA9461C73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5) – (+2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 away two posi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get three posi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-4) – (-3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 away three neg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get one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btrac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11480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91120" y="19051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D84-C801-4C4B-9D72-707B8A61C9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btracting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96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3) – (-5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five zeroes; Take away five neg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get eight posi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-4) – (+1)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one zero; Take away one po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get five neg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1676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1676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1676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1337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2133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2133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96080" y="21337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1676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1676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1676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62920" y="1676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96080" y="1676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48769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4419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4419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44197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4419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86600" y="4419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25160" y="1523880"/>
            <a:ext cx="61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560" y="4267080"/>
            <a:ext cx="51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A76-1406-4829-8327-BE7B37DC0373}" type="slidenum">
              <a:t>14</a:t>
            </a:fld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btracting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3) – (-3)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 students have seen many examples, have them formulate rules for integer subtra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3) – (-3) is the same as 3 + 3 to get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55627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55627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55627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55627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55627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55627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A22-C134-425D-9C33-C1D932DA6C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ica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er multiplication builds on whole number multiplic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oncept that the multiplier serves as the “counter” of sets nee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e given examples, use the algebra tiles to model the multiplication.  Identify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ultipli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u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w pictorial diagrams which model the multiplication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a description of the actions per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968-9560-4989-BCA7-2FECC4E7A5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ica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ounter indicates how many rows to make.  It has this meaning if it is posit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2)(+3) 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3)(-4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3429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3429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3429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4572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4572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572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572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50292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50292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50292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50292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54864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54864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54864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54864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12193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3048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groups of three positiv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4724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groups of four negative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281952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449568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12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810-7C4B-4A50-A6A5-07A3C9C8A4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1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ica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counter is negative it will mean “take the opposite of.”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indicate the motion “flip-over”, but be very careful using that termi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-2)(+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-3)(-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3962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19720" y="3962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6920" y="3962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44197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44197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44197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50292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54864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5943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4038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groups of thre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525780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site of three groups of negative on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three positiv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74000" y="4495680"/>
            <a:ext cx="2355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site of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six negatives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146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88620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-6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502920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+3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FFB-0CC1-4C31-9095-C58FF3B882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9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9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9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9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1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2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2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ica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 students have seen many examples, have them formulate rules for integer multiplic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students practice applying rules abstractly with larger integ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84D-69B3-40C3-8504-23BE913184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lgebra Ti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ipulatives used to enhance student understanding of concepts traditionally taught at symbolic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access to symbol manipulation for students with weak number sen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geometric interpretation of symbol mani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8D2-BE13-446B-BF5D-CD4CA9D8C7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vis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 multiplication, division relies on the concept of a coun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sor serves as counter since it indicates the number of rows to cre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the given examples, use algebra tiles to model the division.  Identify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vis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un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Draw pictorial diagrams which model the proc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A8F-B0CE-4280-989C-327C5324CD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vis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6)/(+2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de into two equal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-8)/(+2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de into two equal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9132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1981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911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771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343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663-F637-4D96-954D-C2A1A97C69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 0.1 E">
                                      <p:cBhvr>
                                        <p:cTn id="762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 0.1 E">
                                      <p:cBhvr>
                                        <p:cTn id="764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.15 0.1 E">
                                      <p:cBhvr>
                                        <p:cTn id="76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.1 E">
                                      <p:cBhvr>
                                        <p:cTn id="799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.1 E">
                                      <p:cBhvr>
                                        <p:cTn id="801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.1 E">
                                      <p:cBhvr>
                                        <p:cTn id="803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.1 E">
                                      <p:cBhvr>
                                        <p:cTn id="805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vis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egative divisor will mean “take the opposite of.”  (flip-ov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+10)/(-2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de into two equal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opposite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get five neg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053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41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913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3352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280368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8BC-8307-4133-B3BD-5AE24B6FFA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08889 E">
                                      <p:cBhvr>
                                        <p:cTn id="817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08889 E">
                                      <p:cBhvr>
                                        <p:cTn id="819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08889 E">
                                      <p:cBhvr>
                                        <p:cTn id="821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08889 E">
                                      <p:cBhvr>
                                        <p:cTn id="823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08889 E">
                                      <p:cBhvr>
                                        <p:cTn id="825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vis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-12)/(-3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 students have seen many examples, have them formulate rul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004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008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514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190512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1AB5-0BE6-4743-8B85-11416E8548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.07778 E">
                                      <p:cBhvr>
                                        <p:cTn id="875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.07778 E">
                                      <p:cBhvr>
                                        <p:cTn id="877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.07778 E">
                                      <p:cBhvr>
                                        <p:cTn id="879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.07778 E">
                                      <p:cBhvr>
                                        <p:cTn id="88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 0.16667 E">
                                      <p:cBhvr>
                                        <p:cTn id="88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 0.16667 E">
                                      <p:cBhvr>
                                        <p:cTn id="885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 0.16667 E">
                                      <p:cBhvr>
                                        <p:cTn id="887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 0.16667 E">
                                      <p:cBhvr>
                                        <p:cTn id="889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9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9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99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0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0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0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1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1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1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2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2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2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nomials are unlike the other ‘numbers’ students learn how to add, subtract, multiply, and divide.  They are not ‘counting’ numbers.  Giving polynomials a concrete reference (tiles) makes them real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vid A. Reid, Acadia Univer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293-F73F-4BE1-A89F-D76D871A32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same concept that was applied with multiplication of integers, think of the first factor as the coun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ame rules app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2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is the counter, so we need three rows of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50C-B3E5-48A0-BF0F-59474C687B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63400" y="1782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2)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Groups of x to get three x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groups of 2 to get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038480" y="27432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38480" y="32004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36576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2743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05720" y="2743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3200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705720" y="3200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3657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05720" y="3657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82920" y="178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 =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03880" y="178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6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4A4-9A48-4416-B363-8C3846C5C5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000"/>
                            </p:stCondLst>
                            <p:childTnLst>
                              <p:par>
                                <p:cTn id="9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486400" y="685800"/>
            <a:ext cx="2133720" cy="19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33720" y="685800"/>
            <a:ext cx="2133360" cy="198108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312408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33720" y="31240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86400" y="38862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38098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4724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666880" y="4724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4724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5981760" y="4610160"/>
            <a:ext cx="21333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00600" y="4724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5400000">
            <a:off x="37800" y="3771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EE9-527E-477C-94E1-701F61FA71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del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ebra tiles can be used to model express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 the simplification of express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, subtract, multiply, divide, or factor polynomi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E49-0504-4815-A714-E9154FDB01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del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or +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19520" y="1523880"/>
            <a:ext cx="2133360" cy="198144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29200" y="1523880"/>
            <a:ext cx="2133720" cy="198144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38098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8098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19520" y="42670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42670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68520" y="53341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25720" y="53341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82920" y="53341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D7A-0EB7-43E8-BE84-4AF8929205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lgebra Ti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cooperative learning, improve discourse in classroom by giving students objects to think with and talk abou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en I listen, I h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en I see, I rememb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ut when I do, I understa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6F0-6CB1-4827-84F7-06F4E30F0A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 each of the given expressions with algebra ti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w a pictorial diagram of the proc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symbolic express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45720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4120" y="4572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1320" y="4572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4572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05720" y="45720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D67-A7D3-445F-BB18-80A03CC0F2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19810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0040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10080" y="1981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1981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2438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00400" y="31240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3581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40384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00400" y="44956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31240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31240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DD2-D0A1-4C03-9F30-C5DCF91074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lgebra tiles to simplify each of the given expressions.  Combine like terms.  Look for zero pairs.  Draw a diagram to represent the proc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symbolic expression that represents each st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4 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2D3-F9C0-4027-8D56-F743FFDAED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63400" y="1692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4 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28954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09880" y="2438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67080" y="2438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09880" y="28954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267080" y="28954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47920" y="4792680"/>
            <a:ext cx="48765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e like terms to get thre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s and five positives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1692360"/>
            <a:ext cx="24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5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990-DE40-4666-A885-134BE7B2F8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-0.35833 0.13333 E">
                                      <p:cBhvr>
                                        <p:cTn id="1172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5833 0.13333 E">
                                      <p:cBhvr>
                                        <p:cTn id="1175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re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1 – 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process can be used with problems containin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3) + (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3) – (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D0E-755E-4C10-9578-469E8B9AE22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ebra tiles can be used to model substitution.  Represent original expression with tiles.  Then replace each rectangle with the appropriate tile value.  Combine like ter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+ 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AC3-866F-4DF7-B91C-BC4F9BDF7C3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 + 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 + 2(4)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 + 8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14400" y="4343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4343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4800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28800" y="43434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48006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34120" y="274320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772400" y="2743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229600" y="2743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772400" y="3200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29600" y="3200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2666880"/>
            <a:ext cx="0" cy="11430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1981080"/>
            <a:ext cx="19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7400" y="4343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4343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71800" y="4343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29000" y="4343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057400" y="4800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14600" y="4800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971800" y="4800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48006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CEF-2A5A-47B7-9434-6E1C67C477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5 0 E">
                                      <p:cBhvr>
                                        <p:cTn id="1279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5 0 E">
                                      <p:cBhvr>
                                        <p:cTn id="1281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5 0 E">
                                      <p:cBhvr>
                                        <p:cTn id="128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5 0 E">
                                      <p:cBhvr>
                                        <p:cTn id="1285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1287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1289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1291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1293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2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gebra tiles can be used to explain and justify the equation solving process.  The development of the equation solving model is based on two ide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quivalent Equations are created if equivalent operations are performed on each side of the equation. (Which means to use the additon, subtraction, mulitplication, or division properties of equality.)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hat you do to one side of the equation you must do to the other side of the equ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ariables can be isolated by using the Additive Inverse Property ( &amp; zero pairs) and the Multiplicative Inverse Proerty ( &amp; dividing out common factors)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goal is to isolate the variab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81BD-63ED-415B-A22A-75F4E2BD9A0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2 =  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5400000">
            <a:off x="3970080" y="265896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54688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0408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9936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75656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21376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546880" y="2895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04080" y="2895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299360" y="2895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756560" y="2895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18480" y="2057400"/>
            <a:ext cx="0" cy="152388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31880" y="4160880"/>
            <a:ext cx="77724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two positives are the same as three positives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two negatives to both sides of the equation; makes zeroes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on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is the same as one positive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233208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2    -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86000" y="278928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= 1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642-63D4-49CA-8FFF-16DB28D8E58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8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0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297320" y="3794040"/>
            <a:ext cx="38088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97320" y="3611520"/>
            <a:ext cx="38088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97320" y="36115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21880" y="1874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÷2    ÷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½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68920" y="1782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97320" y="1782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297320" y="22399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97320" y="31543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7320" y="2697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68920" y="2330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22240" y="4800600"/>
            <a:ext cx="713268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are the same as five negatives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vide both sides into two equal partitions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Two and a half negativ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is the same a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11720" y="1782720"/>
            <a:ext cx="0" cy="22860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146-F729-4CA9-827C-BC8AA8339B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0.0033 0.13241 E">
                                      <p:cBhvr>
                                        <p:cTn id="1476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85185E-006 L 0.00069 0.1456 E">
                                      <p:cBhvr>
                                        <p:cTn id="1484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77778E-006 L 8.33333E-007 -0.06666 E">
                                      <p:cBhvr>
                                        <p:cTn id="148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556E-006 L 3.33333E-006 0.07987 E">
                                      <p:cBhvr>
                                        <p:cTn id="1488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3.33333E-006 -0.13333 E">
                                      <p:cBhvr>
                                        <p:cTn id="1493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L 3.33333E-006 0.05324 E">
                                      <p:cBhvr>
                                        <p:cTn id="1495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1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1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lgebra Ti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ebra tiles can be used to model operations involving integ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the small yellow square represent +1 and the small red square (the flip-side) represent -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44197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4419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502920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yellow and red squares are additive inverses of each other.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EAA-728C-4A19-9690-90D7388CE1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1096920" y="1692360"/>
                <a:ext cx="12812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761080" y="214956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03880" y="1692360"/>
            <a:ext cx="0" cy="18288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572000" y="2057400"/>
            <a:ext cx="365040" cy="365040"/>
            <a:chOff x="4572000" y="2057400"/>
            <a:chExt cx="365040" cy="365040"/>
          </a:xfrm>
        </p:grpSpPr>
        <p:sp>
          <p:nvSpPr>
            <p:cNvPr id="435" name=""/>
            <p:cNvSpPr/>
            <p:nvPr/>
          </p:nvSpPr>
          <p:spPr>
            <a:xfrm>
              <a:off x="4572000" y="2057400"/>
              <a:ext cx="365040" cy="365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72000" y="2057400"/>
              <a:ext cx="18396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731880" y="4708440"/>
            <a:ext cx="74055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half is the same as one negativ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 the opposite of both sides of the equation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One half of a nega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is the same a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754520" y="2057400"/>
            <a:ext cx="18252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22240" y="2697120"/>
            <a:ext cx="210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1  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·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-1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822240" y="3154320"/>
                <a:ext cx="12938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27F-BA21-409F-BDB3-38F08D4F32F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53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4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7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1279440" y="1692360"/>
                <a:ext cx="12812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7315200" y="223992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772400" y="223992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50160" y="2057400"/>
            <a:ext cx="0" cy="18288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479840" y="2239920"/>
            <a:ext cx="1919520" cy="366840"/>
            <a:chOff x="4479840" y="2239920"/>
            <a:chExt cx="1919520" cy="366840"/>
          </a:xfrm>
        </p:grpSpPr>
        <p:sp>
          <p:nvSpPr>
            <p:cNvPr id="448" name=""/>
            <p:cNvSpPr/>
            <p:nvPr/>
          </p:nvSpPr>
          <p:spPr>
            <a:xfrm>
              <a:off x="4479840" y="2239920"/>
              <a:ext cx="191952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761080" y="2239920"/>
              <a:ext cx="0" cy="366840"/>
            </a:xfrm>
            <a:prstGeom prst="line">
              <a:avLst/>
            </a:prstGeom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479840" y="2239920"/>
            <a:ext cx="641520" cy="3668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1880" y="4068720"/>
            <a:ext cx="740556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third of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same as two negatives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y both sides by three (or make both sides three times larger)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same as six negatives</a:t>
            </a:r>
            <a:r>
              <a:rPr b="0" i="1" lang="en-US" sz="2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21360" y="2239920"/>
            <a:ext cx="641160" cy="3668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61080" y="2239920"/>
            <a:ext cx="641160" cy="3668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315200" y="269712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772400" y="269712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15200" y="315432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772400" y="315432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96920" y="2697120"/>
            <a:ext cx="201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•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3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•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3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006560" y="3154320"/>
            <a:ext cx="201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x   </a:t>
            </a:r>
            <a:r>
              <a:rPr b="0" lang="en-US" sz="3000" spc="-1" strike="noStrike">
                <a:solidFill>
                  <a:srgbClr val="000000"/>
                </a:solidFill>
                <a:latin typeface="Arial Unicode MS"/>
                <a:ea typeface="Arial"/>
              </a:rPr>
              <a:t>=  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A63-EAAC-4302-BE14-D505079534E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65040" y="1692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3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5400000">
            <a:off x="3497040" y="2476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400000">
            <a:off x="3039840" y="2476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5400000">
            <a:off x="6073560" y="2476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014800" y="187488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62720" y="187488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014800" y="233208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574040" y="23320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31240" y="23320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031240" y="18748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574040" y="18748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31240" y="27892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562720" y="23320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14800" y="278928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27892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574040" y="27892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574040" y="32464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31240" y="32464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218280" y="1782720"/>
            <a:ext cx="0" cy="18288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31880" y="3987720"/>
            <a:ext cx="78627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ree positives are the same as on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five negatives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n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both sides of the equation; simplify to get on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ree the same as five negative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dd three negatives to both sides; simplify to g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he same as eight negatives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14400" y="20574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-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2240" y="25146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+ 3 =   -5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14400" y="287964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+ -3   + - 3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333684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=   -8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585-4380-4C75-903B-732AC97CD69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10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0" dur="10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1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3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0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2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4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6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782720"/>
            <a:ext cx="475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1) + 5 = 2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3 + 5 = 2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2 = 2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2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   + -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2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-2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     -2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 -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ame as four negativ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14800" y="187488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765840" y="187488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218280" y="18748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392960" y="1692360"/>
            <a:ext cx="0" cy="18288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114800" y="233208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218280" y="23320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114800" y="278928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218280" y="278928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765840" y="233208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765840" y="278928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65840" y="324648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65840" y="370368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5400000">
            <a:off x="6713280" y="2476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5400000">
            <a:off x="8594280" y="169200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5400000">
            <a:off x="7170480" y="2476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8594280" y="214920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8594280" y="260640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5400000">
            <a:off x="8594280" y="306360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A1E-7256-4482-ABC0-F4F9E8DCF43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10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006 0 E">
                                      <p:cBhvr>
                                        <p:cTn id="1845" dur="1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006 0 E">
                                      <p:cBhvr>
                                        <p:cTn id="1847" dur="1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006 0 E">
                                      <p:cBhvr>
                                        <p:cTn id="1849" dur="1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10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7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9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3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5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7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5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 E">
                                      <p:cBhvr>
                                        <p:cTn id="1889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 E">
                                      <p:cBhvr>
                                        <p:cTn id="1891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10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 0 E">
                                      <p:cBhvr>
                                        <p:cTn id="1914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 0 E">
                                      <p:cBhvr>
                                        <p:cTn id="1916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 0 E">
                                      <p:cBhvr>
                                        <p:cTn id="1918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1" dur="10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6" dur="1000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5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1000"/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4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ication using “base ten blocks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2)(1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nk of it as (10+2)(10+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ication using the array method allows students to see all four sub-produ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1BB-D0E3-4860-B2A6-906AB02F287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8" dur="indefinite" restart="never" nodeType="tmRoot">
          <p:childTnLst>
            <p:seq>
              <p:cTn id="1949" dur="indefinite" nodeType="mainSeq">
                <p:childTnLst>
                  <p:par>
                    <p:cTn id="1950" fill="hold">
                      <p:stCondLst>
                        <p:cond delay="0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4" dur="1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9" dur="10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ication using “Area Model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2)(13) = (10+2)(10+3)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 + 30 + 20 + 6 = 15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63760" y="2879640"/>
            <a:ext cx="0" cy="327672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3336840"/>
            <a:ext cx="457200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279440" y="5165640"/>
            <a:ext cx="18432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79440" y="5349960"/>
            <a:ext cx="18432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79440" y="3336840"/>
            <a:ext cx="184320" cy="1828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5400000">
            <a:off x="2286000" y="2332080"/>
            <a:ext cx="184320" cy="1828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92560" y="3154320"/>
            <a:ext cx="18396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75080" y="3154320"/>
            <a:ext cx="18396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657600" y="3154320"/>
            <a:ext cx="18432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292560" y="3429000"/>
            <a:ext cx="0" cy="2103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75080" y="3429000"/>
            <a:ext cx="0" cy="2103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657600" y="3429000"/>
            <a:ext cx="0" cy="2103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840120" y="3429000"/>
            <a:ext cx="0" cy="2103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554120" y="5532480"/>
            <a:ext cx="22860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54120" y="5349960"/>
            <a:ext cx="22860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554120" y="5165640"/>
            <a:ext cx="22860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63760" y="3336840"/>
            <a:ext cx="1828800" cy="1828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736640" y="3886200"/>
            <a:ext cx="11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x 10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36640" y="5257800"/>
            <a:ext cx="13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x 2 = 2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92560" y="3336840"/>
            <a:ext cx="183960" cy="1828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75080" y="3336840"/>
            <a:ext cx="183960" cy="1828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657600" y="3336840"/>
            <a:ext cx="184320" cy="1828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5400000">
            <a:off x="2286000" y="4527360"/>
            <a:ext cx="183960" cy="1828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5400000">
            <a:off x="2286000" y="4343400"/>
            <a:ext cx="184320" cy="1828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292560" y="5165640"/>
            <a:ext cx="18396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75080" y="5165640"/>
            <a:ext cx="18396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57600" y="5165640"/>
            <a:ext cx="18432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92560" y="5349960"/>
            <a:ext cx="18396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5080" y="5349960"/>
            <a:ext cx="18396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657600" y="5349960"/>
            <a:ext cx="184320" cy="1825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382920" y="3794040"/>
            <a:ext cx="13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x 3 = 3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382920" y="5257800"/>
            <a:ext cx="13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x 3 = 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46280" y="525780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x 2 = 2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4867-A18B-45E8-B819-A2D6F8A20D7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y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553760" y="1600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2)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6640" y="2239920"/>
            <a:ext cx="210204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320400" y="365760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189080" y="489276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89080" y="525780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40120" y="223992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06960" y="223992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0" y="223992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40120" y="489276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06960" y="489276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0" y="489276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840120" y="525780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06960" y="525780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0" y="525780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736640" y="2789280"/>
            <a:ext cx="2102040" cy="210168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736640" y="4892760"/>
            <a:ext cx="210204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736640" y="5257800"/>
            <a:ext cx="210204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2971800" y="365760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5400000">
            <a:off x="3338640" y="365760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3703680" y="365760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46280" y="2239920"/>
            <a:ext cx="0" cy="36576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189080" y="2697120"/>
            <a:ext cx="396252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31880" y="598968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+  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+ 6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 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851440" y="20574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each section of the area mode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855040" y="324648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like term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C82-69A3-4AFC-A0FA-7A2C09FCF36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0" dur="indefinite" restart="never" nodeType="tmRoot">
          <p:childTnLst>
            <p:seq>
              <p:cTn id="1971" dur="indefinite" nodeType="mainSeq">
                <p:childTnLst>
                  <p:par>
                    <p:cTn id="1972" fill="hold">
                      <p:stCondLst>
                        <p:cond delay="0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6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7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0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8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1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y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523880" y="1523520"/>
            <a:ext cx="7010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1)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5400000">
            <a:off x="114120" y="3619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22096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657600" y="2209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038480" y="22096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2209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800600" y="2209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90720" y="48769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00600" y="48769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523880" y="2743200"/>
            <a:ext cx="2133720" cy="213372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5400000">
            <a:off x="2781000" y="3619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5400000">
            <a:off x="3161880" y="361944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rot="5400000">
            <a:off x="3543120" y="3619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5400000">
            <a:off x="3924000" y="36194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48769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038480" y="48769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419720" y="48769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23880" y="487692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447920" y="2209680"/>
            <a:ext cx="0" cy="327672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14400" y="2666880"/>
            <a:ext cx="457200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82920" y="5622840"/>
            <a:ext cx="237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209376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91320" y="23623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Fill in each section of the area mode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54680" y="3084480"/>
            <a:ext cx="208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Make Zeroes or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combine like term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and simplif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880" y="562284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098720" y="5622840"/>
            <a:ext cx="82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20960" y="5622840"/>
            <a:ext cx="82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651040" y="561816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DDD8-1826-4D0A-96B6-258C23BA0DD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0" dur="indefinite" restart="never" nodeType="tmRoot">
          <p:childTnLst>
            <p:seq>
              <p:cTn id="2061" dur="indefinite" nodeType="mainSeq">
                <p:childTnLst>
                  <p:par>
                    <p:cTn id="2062" fill="hold">
                      <p:stCondLst>
                        <p:cond delay="0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3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1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1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4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2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14914 -0.27894 E">
                                      <p:cBhvr>
                                        <p:cTn id="2155" dur="1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.10747 -0.22546 E">
                                      <p:cBhvr>
                                        <p:cTn id="2157" dur="1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658 -0.17222 E">
                                      <p:cBhvr>
                                        <p:cTn id="2159" dur="1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2414 -0.11898 E">
                                      <p:cBhvr>
                                        <p:cTn id="2161" dur="1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006 0 E">
                                      <p:cBhvr>
                                        <p:cTn id="2163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006 0 E">
                                      <p:cBhvr>
                                        <p:cTn id="2165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006 0 E">
                                      <p:cBhvr>
                                        <p:cTn id="2167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9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ply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2)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2)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786-2125-4972-856E-B029D3E406C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ebra tiles can be used to factor polynomials.  Use tiles and the frame to represent the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tiles to fill in the array so as to form a rectangle inside the fra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prepared to use zero pairs to fill in the arr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w a pi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82C-95BA-46E0-BC13-4F49E28A8D9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7" dur="indefinite" restart="never" nodeType="tmRoot">
          <p:childTnLst>
            <p:seq>
              <p:cTn id="2178" dur="indefinite" nodeType="mainSeq">
                <p:childTnLst>
                  <p:par>
                    <p:cTn id="2179" fill="hold">
                      <p:stCondLst>
                        <p:cond delay="0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10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10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lgebra Ti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ebra tiles can be used to model operations involving vari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the green rectangle represent +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the red rectangle (the flip-side) represent -1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502920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een and red rods are additive inverses of each other.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41972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4419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00C-7418-4FF9-A093-D75E0F0BBF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06560" y="1600200"/>
            <a:ext cx="213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36640" y="2239920"/>
            <a:ext cx="210204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846680" y="178272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846680" y="223992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846680" y="269712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840120" y="223992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189080" y="278928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189080" y="315432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89080" y="352116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132680" y="178272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32680" y="223992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132680" y="269712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096920" y="2697120"/>
            <a:ext cx="342900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46280" y="2239920"/>
            <a:ext cx="0" cy="190512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0" y="1660680"/>
            <a:ext cx="82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925720" y="1600200"/>
            <a:ext cx="127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1)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846680" y="425124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132680" y="42512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32680" y="47084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132680" y="51656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096920" y="5165640"/>
            <a:ext cx="411480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646280" y="4708440"/>
            <a:ext cx="0" cy="190512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589880" y="42512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589880" y="47084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589880" y="51656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736640" y="4708440"/>
            <a:ext cx="210204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40120" y="47084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189080" y="525780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189080" y="5622840"/>
            <a:ext cx="365040" cy="3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72000" y="47084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206960" y="4708440"/>
            <a:ext cx="365040" cy="3650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0" y="4068720"/>
            <a:ext cx="82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925720" y="4037040"/>
            <a:ext cx="127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846680" y="4708440"/>
            <a:ext cx="2101680" cy="3650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35760" y="5165640"/>
            <a:ext cx="29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Note the two are positive, this needs to be developed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E7A-7221-4C05-A1A6-CAEEC6807A0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3" dur="indefinite" restart="never" nodeType="tmRoot">
          <p:childTnLst>
            <p:seq>
              <p:cTn id="2204" dur="indefinite" nodeType="mainSeq">
                <p:childTnLst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9" dur="2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3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5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44444E-006 L -0.3349 0.14676 E">
                                      <p:cBhvr>
                                        <p:cTn id="2232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11111E-006 L -0.3349 0.13357 E">
                                      <p:cBhvr>
                                        <p:cTn id="2234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2222E-006 L -0.3349 0.12014 E">
                                      <p:cBhvr>
                                        <p:cTn id="2236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00024 L -0.3599 0.14676 E">
                                      <p:cBhvr>
                                        <p:cTn id="2238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00023 L -0.3599 0.13357 E">
                                      <p:cBhvr>
                                        <p:cTn id="2240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00023 L -0.3599 0.12014 E">
                                      <p:cBhvr>
                                        <p:cTn id="2242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4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9" dur="20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7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0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3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6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9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2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5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-0.3401 0.14653 E">
                                      <p:cBhvr>
                                        <p:cTn id="2309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401 0.13333 E">
                                      <p:cBhvr>
                                        <p:cTn id="2311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-0.36007 0.14676 E">
                                      <p:cBhvr>
                                        <p:cTn id="2313" dur="2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24 L -0.36007 0.13357 E">
                                      <p:cBhvr>
                                        <p:cTn id="2315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23 L -0.31997 0.01343 E">
                                      <p:cBhvr>
                                        <p:cTn id="2317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023 L -0.33003 0.14676 E">
                                      <p:cBhvr>
                                        <p:cTn id="2319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024 L -0.33003 0.13357 E">
                                      <p:cBhvr>
                                        <p:cTn id="2321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023 L -0.36997 0.0669 E">
                                      <p:cBhvr>
                                        <p:cTn id="2323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5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88720" y="1692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6576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038480" y="2438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5400000">
            <a:off x="11412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41972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80060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99072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9072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2971800"/>
            <a:ext cx="2133720" cy="213372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5400000">
            <a:off x="278100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5400000">
            <a:off x="3161880" y="384804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5400000">
            <a:off x="354312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5400000">
            <a:off x="3924000" y="384804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51055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54864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65760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038480" y="5105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41972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800600" y="51055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65760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41972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38480" y="54864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800600" y="54864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47920" y="2438280"/>
            <a:ext cx="0" cy="36576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914400" y="2895480"/>
            <a:ext cx="449568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017880" y="169236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2)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4)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943-2E68-4E2C-A06E-6828AA82708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3" dur="indefinite" restart="never" nodeType="tmRoot">
          <p:childTnLst>
            <p:seq>
              <p:cTn id="2364" dur="indefinite" nodeType="mainSeq">
                <p:childTnLst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9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8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2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6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0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3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5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6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7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463400" y="1692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676520" y="2895480"/>
            <a:ext cx="2133360" cy="213372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676520" y="236232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400000">
            <a:off x="266400" y="3771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5400000">
            <a:off x="2933280" y="377172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5400000">
            <a:off x="3314520" y="377172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rot="5400000">
            <a:off x="3695400" y="377172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676520" y="5029200"/>
            <a:ext cx="21333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676520" y="5410080"/>
            <a:ext cx="213336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50292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191120" y="5029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0" y="5029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809880" y="54100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91120" y="5410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72000" y="5410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809880" y="23623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191120" y="23623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0" y="23623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143000" y="50292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143000" y="54100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600200" y="2362320"/>
            <a:ext cx="0" cy="36576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066680" y="2819520"/>
            <a:ext cx="419112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292560" y="1751040"/>
            <a:ext cx="2560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2)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CC0-C60E-4523-8F2C-61B93579C1B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8" dur="indefinite" restart="never" nodeType="tmRoot">
          <p:childTnLst>
            <p:seq>
              <p:cTn id="2459" dur="indefinite" nodeType="mainSeq">
                <p:childTnLst>
                  <p:par>
                    <p:cTn id="2460" fill="hold">
                      <p:stCondLst>
                        <p:cond delay="0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4" dur="10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4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7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6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9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2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6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9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2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1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2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4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371240" y="1782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600200" y="2971800"/>
            <a:ext cx="2133720" cy="213372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600200" y="243828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600200" y="51055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600200" y="548640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5400000">
            <a:off x="189720" y="3848040"/>
            <a:ext cx="21337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rot="5400000">
            <a:off x="2857320" y="384804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5400000">
            <a:off x="3238200" y="384804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19080" y="384804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066680" y="51055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066680" y="54864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733920" y="24382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114800" y="24382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495680" y="24382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733920" y="51055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114800" y="51055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495680" y="510552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33920" y="54864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54864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495680" y="54864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523880" y="2438280"/>
            <a:ext cx="0" cy="358164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990720" y="2895480"/>
            <a:ext cx="411480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017880" y="1843200"/>
            <a:ext cx="34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2)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9DE2-631F-497E-AA8F-BE69E62C88C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5" dur="indefinite" restart="never" nodeType="tmRoot">
          <p:childTnLst>
            <p:seq>
              <p:cTn id="2546" dur="indefinite" nodeType="mainSeq">
                <p:childTnLst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6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1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4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0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3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6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1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9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2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1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2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5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6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9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0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5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3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actor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6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D0F-05B8-45E7-A215-FD390E63CA7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vid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ebra tiles can be used to divide polynomi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iles and frame to represent problem.  Dividend should form array inside frame.  Divisor will form one of the dimensions (one side) of the fra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prepared to use zero pairs in the divide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685-C44C-48D6-BE2E-8F22E094078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4" dur="indefinite" restart="never" nodeType="tmRoot">
          <p:childTnLst>
            <p:seq>
              <p:cTn id="2625" dur="indefinite" nodeType="mainSeq">
                <p:childTnLst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vid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523880" y="1692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30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+ 7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+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676520" y="297180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676520" y="56386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5400000">
            <a:off x="26640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676520" y="3505320"/>
            <a:ext cx="2133360" cy="213336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rot="5400000">
            <a:off x="2933280" y="438120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5400000">
            <a:off x="331488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5400000">
            <a:off x="369576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5400000">
            <a:off x="4076280" y="438120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rot="5400000">
            <a:off x="445788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rot="5400000">
            <a:off x="4838760" y="4381560"/>
            <a:ext cx="213336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09880" y="29718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9112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57200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952880" y="29718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3412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15000" y="29718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14300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09880" y="56386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19112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952880" y="56386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33412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715000" y="5638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600200" y="2971800"/>
            <a:ext cx="0" cy="320040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066680" y="3429000"/>
            <a:ext cx="518184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657600" y="1936800"/>
            <a:ext cx="283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66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 6)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4DE-F1A5-4096-A25E-C1130ABD4D6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4" dur="indefinite" restart="never" nodeType="tmRoot">
          <p:childTnLst>
            <p:seq>
              <p:cTn id="2645" dur="indefinite" nodeType="mainSeq">
                <p:childTnLst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0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5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0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4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5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8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1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0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5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6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1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2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5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9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0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4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viding Polynomi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+ 7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+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+ 5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–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–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– 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+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– 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C057-85B5-4B85-98B2-DA9828E539A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ebra tiles can be made using the Ellison (die-cut) mach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-line reproducible can be found by doing a search for algebra ti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tual Algebra Tiles at HRW 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my.hrw.com/math06_07/nsmedia/tools/Algebra_Tiles/Algebra_Tiles.html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Library of Virtual Manipulatives 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nlvm.usu.edu/en/nav/topic_t_2.html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84B-35F0-45CA-9716-0646E057A3A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vid McReyn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MS PreK-16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el Villarre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th Texas Rural Systemic Initi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 Ann Mosier &amp; Roland O’Dani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borative for Teaching and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ship for Reform Initiatives in Science and Mathema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336-DEEB-4FF6-9BB4-6C2BD82FEE2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lgebra Ti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the blue square represen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The red square (flip-side of blue) represents 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with integers, the red shapes and their corresponding flip-sides form a zero p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4038480"/>
            <a:ext cx="2133720" cy="198144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3962520"/>
            <a:ext cx="2133720" cy="19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423-A6BC-40C5-8E0C-DAF6AEB472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486400" y="685800"/>
            <a:ext cx="2133720" cy="19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685800"/>
            <a:ext cx="2133360" cy="1981080"/>
          </a:xfrm>
          <a:prstGeom prst="rect">
            <a:avLst/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312408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3124080"/>
            <a:ext cx="213336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38862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38098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4724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4724280"/>
            <a:ext cx="3812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724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5981760" y="4610160"/>
            <a:ext cx="21333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4724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37800" y="3771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6C3-8883-4201-8F36-9984F48DE2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Zero Pai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ed zero pairs because they are additive inverses of each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put together, they model ze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use “cancel out” for zeroes use zero pairs or add up to ze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44197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44197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029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50292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4419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50292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4419720"/>
            <a:ext cx="2133720" cy="380880"/>
          </a:xfrm>
          <a:prstGeom prst="rect">
            <a:avLst/>
          </a:prstGeom>
          <a:solidFill>
            <a:srgbClr val="00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50292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587B-2D0F-4830-B519-ED3C182683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ddition of Integ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 can be viewed as “combining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ing involves the forming and removing of al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ero pai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of the given examples, use algebra tiles to model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pictorial diagrams which show the mod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anipulatio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F2C-22B4-438A-B359-8C1667F554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20:34:15Z</dcterms:created>
  <dc:creator>D. McReynolds</dc:creator>
  <dc:description/>
  <dc:language>en-US</dc:language>
  <cp:lastModifiedBy>Roland O'Daniel</cp:lastModifiedBy>
  <dcterms:modified xsi:type="dcterms:W3CDTF">2007-12-12T17:13:03Z</dcterms:modified>
  <cp:revision>53</cp:revision>
  <dc:subject/>
  <dc:title>Let’s Do  Algebra Tiles</dc:title>
</cp:coreProperties>
</file>